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D9A-ADB5-4472-B0FD-0FEC44AD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1C8-997F-4545-A98B-62EC753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253-8B75-4274-B3BC-E1D33E41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F46-D073-4B6E-A9A2-4BC29C1B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46E-A6D6-4167-91EB-9953440D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64D-959E-4D1B-9146-FCE54800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2CB-D405-4640-A016-B0549075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E92-7453-4348-8FEF-A105E216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5E1-7670-4F90-B94A-A66DE565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640-EE94-48A4-A2A3-97A7E4F7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A4D-C56D-402C-81FF-21FC557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71D-063F-4788-8FA9-480A011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4487-854B-453A-9451-7D9AC390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 Sláva Pánu Bo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Pánu Bohu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blahú zv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m novú náde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e mu vzdajme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i človek pre nev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rokom sa hriechu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božej plnú mi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m uká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Kristovi Buď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u dal zmysel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ovského vzdal sa pr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al smrti trest z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ás znášal úzk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skom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ú vložil do sŕdc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, náš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Záchrancovi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ohol smrť, z hrobu vstal.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nie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elý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veto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práva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a vráti ak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tých, čo sú pripr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ženejšej správy niet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ádnuť bude mier na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Boh tento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7:19Z</dcterms:modified>
  <cp:revision>19</cp:revision>
  <dc:subject/>
  <dc:title>Je veľký náš Pán, on slávy je Kráľ Nech do všetkých strán  spev vrúcnych znie chvál.</dc:title>
</cp:coreProperties>
</file>